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B4F-2AC1-4C46-A49F-BA458D82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D41-E263-489C-AE0C-6FECAF46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E735-690E-4F58-802E-3A2AA1B8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8633-E9DE-452F-A165-F0CE71BF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674E-6436-490F-B0E2-EB70C9E6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08EF-B586-4883-950C-77711195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CDBE-DF62-4F84-9E3B-F18CEEA7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E08-1DB4-4BF9-8316-879B643F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5F0-E151-4E2B-81DE-996DC609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CC4D-3A7A-4DB6-821A-C52C067A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B386-5225-48F4-A8DB-B3B4A19D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DAE6-CA68-43A2-BCE8-90B30747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A2AF-5F75-4219-A973-14448DB4D53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Extract from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Prel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William Wordswo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f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inn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v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a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40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mall and delic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mall bo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cket; dense wood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raft, bo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000" y="1557000"/>
            <a:ext cx="23749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pic po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lank verse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im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etaph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erson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epet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16000" y="1557000"/>
            <a:ext cx="5770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ong narrative poem traditionally recounting heroic explo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rhymed iambic pentameter, the main dramatic and narrative verse form in English poe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hrase used to make a description more vivid by using ‘like’ or ‘as’ to compare two th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rect comparison between two things without using ‘like’ or ‘as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sing human qualities to describe  inanimate ob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peated words, phrases or images that underpin the theme, emphasise the message or contribute to tone/m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3T16:17:37Z</dcterms:modified>
  <cp:revision>47</cp:revision>
  <dc:subject/>
  <dc:title>La Belle Dame Sans Merci</dc:title>
</cp:coreProperties>
</file>