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D18D-FE19-42F0-9060-A82FC248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9CE0-CFB3-4543-9412-FC605B42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931-F1A1-44AB-891B-ECC8F13F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4BC-461E-4C8F-8EDB-3D7033AF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B04-5BF9-48C5-BFFE-49155FC4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840-7AB6-4D42-BDB9-71907F8E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DF4-C03F-49B3-9DA2-3F6357A1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F03-88CE-44F6-93AC-A5D84E6F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E5FA-D4EA-41CA-84E3-A2FCD696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3EA-AFF1-45DC-86DC-A792449E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3657-A350-4CFC-9E6A-87684C57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5D6-FA6F-49A0-9905-44F5DECE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0353-9AA3-41A2-84B3-7E63C6718F4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xp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Wilfred Ow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ercil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ali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e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incessant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poign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elancho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r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uccess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howing no pity or kind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front military line that protects against the enemy; noticeable or str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oldiers guarding somet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ontinual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enetrating, effective, shar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ines of people or ob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llowing one after ano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nonch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teal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gloz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ej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vinc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o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hrivel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uck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16000" y="1628640"/>
            <a:ext cx="532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sual lack of concer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cre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de smal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eleb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conqu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wil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ying and wrink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tracting into wrink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4920" y="162864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im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2728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hrase used to make 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ption more vivid by using ‘like’ or ‘as’ to compare two th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rect comparison between two things without using ‘like’ or ‘as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0020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llit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ing human qualities to describe  inanimat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eated use of the same consonant in a phrase or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6:09:30Z</dcterms:modified>
  <cp:revision>35</cp:revision>
  <dc:subject/>
  <dc:title>La Belle Dame Sans Merci</dc:title>
</cp:coreProperties>
</file>