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18F7-A3A8-4EC8-A135-061AC9EF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FECF-955C-4E48-B24D-C855DED6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D416-0FCD-438F-BED1-5788F27E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216F-AD20-44EF-9F29-44ACB82D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919A-C64A-467C-8C7F-E4431274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C6A0-D113-4BD7-8C0D-1AA3E779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4995-CCE5-49F6-8B66-C9D7E66F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B8F5-B71D-4E78-889D-244FC76E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F48D-6FDC-48BC-A20E-9A8BF26E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A217-FDC2-4A0D-B917-CB57A8EE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5E80-2E66-4687-BC6E-9BFDFB1D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F8E3-407E-4DDE-9DF7-83BF3C01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CAF4-1DA1-4F3E-956D-0059936FE58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r Photograp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arole Satyamur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195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revai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rbitrary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40000" y="16002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aking over, taking ch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andom, without reason or jud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Jane Klima</cp:lastModifiedBy>
  <dcterms:modified xsi:type="dcterms:W3CDTF">2014-11-30T00:22:50Z</dcterms:modified>
  <cp:revision>28</cp:revision>
  <dc:subject/>
  <dc:title>La Belle Dame Sans Merci</dc:title>
</cp:coreProperties>
</file>