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9CEA-C07F-4202-AA4E-EF198D75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921C-C722-4ACC-9EEC-6BA141C8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033-FAA8-4CD9-AB6F-B809D9EA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8033-1266-4837-83E7-356FAA55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F91-2C7B-4D43-8E53-61DE2224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D8F-F685-4DBE-B9BB-11514131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21B1-E73E-44DA-9D5E-003581A0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E93-5F5B-482B-A759-AE441243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5564-20F7-4235-AD73-89211A66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FB2-6B1C-4A40-8189-B30724C3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648D-80A8-4F1A-BA2F-EF0DA020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A773-3F79-4905-A544-CD94B621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0DA8-FA37-47F4-8E66-03DA38996A3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elfast Confet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iaran Ca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000" y="1341360"/>
            <a:ext cx="309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abyri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alaclava, Raglan, Inkerman, Odes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arac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Kremlin-2 me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akrolon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usil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492360" y="1341360"/>
            <a:ext cx="5400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untain; also f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elfast streets or landmarks named after famous battles, sieges or military lea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rmoured personnel carrier/t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ti-rocket netting fitted to t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t synthetic material suitable for vis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rst of gunf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Jane Klima</cp:lastModifiedBy>
  <dcterms:modified xsi:type="dcterms:W3CDTF">2014-11-18T22:15:15Z</dcterms:modified>
  <cp:revision>40</cp:revision>
  <dc:subject/>
  <dc:title>La Belle Dame Sans Merci</dc:title>
</cp:coreProperties>
</file>