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021-C69E-4827-8BB4-B1FDAE62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3CA-9831-4694-952A-3B0021E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F59-B6AD-41F2-8375-8780874A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7C1-FD0F-4A2D-A39B-69CDCEBF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898-C2B3-499D-A189-5300112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273-AB24-4345-8C9F-AD27CD4F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C49-025C-425B-848B-3323845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676-A6C6-4D74-8647-119DBFC6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1A3-F32D-4F9B-BB39-1BF9ACE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13B-F144-4250-B2D6-4694F2A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294-7C03-4028-B86C-0FACA258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69A-8C55-4923-BAC0-CA4C29D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48F-62E8-4F61-8C4B-3E2A0421F5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usin K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hristina Rosse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lax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u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oe’s 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there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ast me b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y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an esta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ro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le-yellow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empted into a tra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rrow/misfortune is m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f th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rew me of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ereal cr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or background/hom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8T13:21:36Z</dcterms:modified>
  <cp:revision>29</cp:revision>
  <dc:subject/>
  <dc:title>La Belle Dame Sans Merci</dc:title>
</cp:coreProperties>
</file>