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DA7-F2F7-4E7A-A677-DD539F19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56F-324A-414F-8046-57832763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C43-C211-4B3E-A6EC-4DBC5F73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F1E-D5C0-4AFF-B377-3FB6F6C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987-89D3-4437-AAF6-78A597B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348-16E2-493E-8687-E731F4E6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98D-D2F5-4857-A269-A0BB930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902-E92D-4669-9867-89E4B4E9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DB1-7409-4076-A6F7-2D747BB8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219-2B1E-48F8-9DF7-3253C3F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FE1-9E72-4FC2-8197-DDF5EA8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1AD-F722-486A-8D15-AC12D9C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E00-3737-4AF1-9474-08C040F8B2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ohn Ag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h 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ensive term to denote a person whose parents are of different 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ibbean expletive meaning ‘my ars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4T09:01:24Z</dcterms:modified>
  <cp:revision>52</cp:revision>
  <dc:subject/>
  <dc:title>La Belle Dame Sans Merci</dc:title>
</cp:coreProperties>
</file>