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AB6-6C09-4070-90D1-C59D7C1B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108-F85A-450E-9C53-EAB5380D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B58-EC67-4A61-A5ED-87429232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0CC-D479-4353-B9FC-5BEA44B3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465-D925-4B29-A5F4-19AA37ED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EAC-2A0E-4C07-821B-99DFE357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949-7874-4B29-B394-7F1F1887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9C1-37E0-4EA2-A0A2-1DF070F4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9DD-3603-499A-B7EB-1A76FF9F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000-8F39-482F-A99B-7BB1BDE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A5D-914F-44ED-A9AE-643807D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2A7-FC35-4574-80E5-80613D7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69DB-F7CC-4818-81F9-83FE38CC71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tr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Gillian Clar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fro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viron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sinf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fi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e-to-face fight or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lating to surroundings, especially as they affect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eaned to destroy g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enly disobedient or ang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xymo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32000" y="1557360"/>
            <a:ext cx="54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the same vowel sounds in close proximity to one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 that sound like their mea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ison of two seemingly contradictory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4T09:47:23Z</dcterms:modified>
  <cp:revision>38</cp:revision>
  <dc:subject/>
  <dc:title>La Belle Dame Sans Merci</dc:title>
</cp:coreProperties>
</file>