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A41-EA42-48FE-B12D-C699AFC6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013-D1F1-4D5F-ADCB-757B563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80B-F80B-4C32-B746-D9837A9A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EDA-8580-4D2C-B69B-8FC91815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922-EE15-4C8D-9E8E-F50DA836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DEB-847D-4CD2-B0BE-52F8DF7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F89-F232-47F0-B59B-9D215A6E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203-2AD3-4C98-BEC1-242BB13C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77A-1C3F-46EB-8D67-06C0B55D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A95-07B4-41C2-8953-BC967E0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F8D-3D12-428F-907A-FC3986B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A4F-DE61-4E2B-831D-D4371E45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112C-238E-485F-B0D4-6C53E60B68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Destruction of Sennacher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ord By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ssyri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f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h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alil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st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orr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strown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l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sh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en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unsmo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00360" y="160020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.e. Sennacherib, King of Assyria (705–681 B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lock of sheep in a sheep-p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ro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.e. Sea of Galilee, a lake in northern Isra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ext mo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archaic word for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ewn) scat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literally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ong wind;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figuratively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vine an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mo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pital of the Assyrian Emp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gan fertility god worshipped in ancient ti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on who is not Jewish, i.e. here, Sennacheri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ot stru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483920"/>
            <a:ext cx="172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quatrai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napa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trameter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95280" y="1484280"/>
            <a:ext cx="6491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stanza of four lines, often having alternate rhy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unstressed syllables followed by one stressed syllabl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ne of verse containing four stressed syll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ds beginning with the same consonant sound, often used to emphasise a particular point in a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25:31Z</dcterms:modified>
  <cp:revision>41</cp:revision>
  <dc:subject/>
  <dc:title>La Belle Dame Sans Merci</dc:title>
</cp:coreProperties>
</file>