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A3C-7690-46E8-899F-239ED46D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670-DEF1-4FE4-9C11-739C6B28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C80-B00F-4B6E-8D57-89503EC1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230-659E-4C8B-889B-6D00E66D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F85-7877-45E0-B23F-02451511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D9A-F341-4C74-89E3-25D36DAE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7D7-9B33-4998-95FE-28D7AB40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662-0ABD-4B0C-B822-5DE5E99B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1D4-B685-4F5E-9E6F-4BC03DF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3A2-9057-4BE1-8CCE-DCE6C9B0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C10-8305-4ECB-A19F-A6B97CDC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2D8-D237-4407-B797-9A0FF3F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A924-0EA1-47B5-96C3-970A81F21EC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Man He Kil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omas Har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224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ipper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fa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alf-a-crown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rt for ‘wet the baby’s head’ meaning toast the health of a new ba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gional dialect word for ba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ot soldiers on the front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e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list, join the ar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ngs, stu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y a drink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-decimal coin to the value of two shillings and sixpence (12½ p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483920"/>
            <a:ext cx="3382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dramatic monolog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quatr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ambic t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ambic tetrameter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95280" y="1484280"/>
            <a:ext cx="4691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irst-person narra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stanza of four lines, often having alternate rhy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tre with three beats of two syllables per 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tre with four beats of two syllables per 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37:33Z</dcterms:modified>
  <cp:revision>50</cp:revision>
  <dc:subject/>
  <dc:title>La Belle Dame Sans Merci</dc:title>
</cp:coreProperties>
</file>