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013-CB18-47E0-8CCC-34ACE618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CA3-4E01-4AD1-AA67-09341E4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63A-6344-4EDB-A194-F28D1E69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B50-622B-41D5-821F-C3EA2630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D01-0B4C-4ABB-9946-25264CA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D95-AC63-4A11-8E94-A3EAC04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C1F-DF77-46E6-80A1-7C589578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FC0-3FCC-4019-A5E8-6F977C1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437-3571-4D5E-B386-757FC1C9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122-A670-4486-BFBA-3646615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66F-411D-4B96-A044-42998C4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78C-B0B1-462C-8814-D2EDE10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0B4-5440-452A-974A-FE1FBFD830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njamin Zephani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48428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ereotyping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judice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eating people according to false assumptions based on a widely held but oversimplified image or idea of their ‘typ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like or hostility based on a preconceived opinion rather than actual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6T21:31:15Z</dcterms:modified>
  <cp:revision>61</cp:revision>
  <dc:subject/>
  <dc:title>La Belle Dame Sans Merci</dc:title>
</cp:coreProperties>
</file>