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3B8-7E46-4C7B-B43A-7B27FB26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BC3-0B75-4EC4-BBBA-CD5EC58C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C53-D17D-4EFC-A258-F38B856C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68D-11C4-422A-9158-FF57DA2D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C68-38DB-47BE-8E3D-F8897DB6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123-CFC3-495F-BFEC-C405360A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5F7-930C-4621-B507-1C83CE9F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04B-96CA-411F-B70E-2FC31A5A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450-CDE4-4C88-8F54-F41C66D9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F90-C6B6-4CD7-A810-F5566C17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5D8-58C1-4047-8318-5331371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5D1-DA90-43D6-902D-6CCD4B5D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632-FD53-4787-8690-4536212F08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Class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ary Ca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7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i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r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ul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mm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o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000" y="1600200"/>
            <a:ext cx="65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of the same social or economic lev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opt expression of p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uncil ho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i-detached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manual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ube from the throat to the stoma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vel to and from daily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bourer who loads and unloads 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341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ull rh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ternal rh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43280" y="1341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ame or similar sound between words or the endings of words in lines of po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yme involving  a word in the middle of a line of poetry and a word at the end of the same line or in the middle of the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 rhyme usually centred on vowel s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urrence of consonant sounds in close proximity in lines of poe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05:51Z</dcterms:modified>
  <cp:revision>41</cp:revision>
  <dc:subject/>
  <dc:title>La Belle Dame Sans Merci</dc:title>
</cp:coreProperties>
</file>