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540-A71B-4486-90C5-44AA940D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2F9-A172-4F71-9142-416FA073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A87-D9E9-4DC0-B8B3-B7BBC256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D4C-9A02-45A0-B4A7-3E8B9336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496-EFF6-47F1-A6E5-E9784C82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A50-7B4B-4C5A-A7B9-B8BACE49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88F-9838-4041-9C07-59DA4167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A27-0FE3-4AE5-A828-71F75427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AA9-34FB-42E1-BCB5-CF25EC03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AC6-C274-4A73-961E-3C1D769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23E-CC3B-4F56-BE5B-C5EAC83D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1CD-F687-4B63-B3FE-71CCC43C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90B7-911E-406C-9AAA-1EB776389A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Charge of the Light Brig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lfred, Lord Tenny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341360"/>
            <a:ext cx="2241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ight brig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aval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smay’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a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onder’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ss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under’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341360"/>
            <a:ext cx="6275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ny of soldiers using light weapon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ldiers on horse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bout 3 m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valry 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mired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vy artillery/gu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from Russia, Ukraine and Siberia famed for their horsema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rn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4130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actyl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actylic d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59280" y="141300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ythm and pace of a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e stressed syllable followed by two unstressed syllables in poetic me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wo feet in a line of poetry, with each foot consisting of a dactyl (see abo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yperbo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naph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hetorical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ggeration for dramatic or emphatic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tition of word or phrase at the beginning of successive li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 that sound like their mea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question posed without any expectation of getting an ans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tis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enso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84000" y="1600200"/>
            <a:ext cx="64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ing one side in a conflict or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e-sided, bi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iased or misleading information put out by governments to publicise or promote a political cause or point of vie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ficial examination of reports, texts, films, etc., possibly resulting in suppression of parts considered un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00:11Z</dcterms:modified>
  <cp:revision>39</cp:revision>
  <dc:subject/>
  <dc:title>La Belle Dame Sans Merci</dc:title>
</cp:coreProperties>
</file>