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5D4-A911-46F1-9E52-FAC40497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E73-B83B-4DEF-84A1-7208EA4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40F-8E06-41E9-AFFE-F7005DB5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353-D64D-4FEA-BB79-3E5D90F3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83D-D761-4CCE-8AE4-A425929F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E44-FDC7-4AFD-B1A8-97FDC12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001-0542-4D0E-8586-0473571F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83D-ECDE-4CA5-AE99-FE1F6C12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8A7-2ED9-4DA0-B397-8DB1F9B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B17-F1E7-4B3F-8E41-EC94F711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81E-4139-4D26-92A1-EC164EC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3CD-9665-4CFA-9637-1DC4695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D436-6777-4B7F-B1E3-042BC3BD03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opp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ane We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484280"/>
            <a:ext cx="237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rmis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membrance Sun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rim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ias binding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ace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arest Sunday to November 1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rmistice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ink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orative ribbon edging sewn around the collar/cuffs of uni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an image or object or idea to represent a broader concept or 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04T12:00:42Z</dcterms:modified>
  <cp:revision>60</cp:revision>
  <dc:subject/>
  <dc:title>La Belle Dame Sans Merci</dc:title>
</cp:coreProperties>
</file>