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ED08-1643-401F-A0A4-BA43AA0F74A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7E9F-D6E3-4E89-A7A1-16A8C521C38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D75D-8DDD-4F2E-8D16-E4AFA9152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CB41-2A64-4F0C-B173-3361865D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7D28-797C-426B-8454-2C992C401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D404-8DAF-4229-866F-3D8648A54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E633-B9A0-45D2-A77A-EC510C35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4676-D8C7-4840-B3CD-3E342127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D053-1ED2-4B19-B31C-446870E3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9ED0-C782-4E9C-90A8-EFB59E9A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19C0-6575-4B48-8A33-1D2447BF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5340-7D37-428C-8794-3C96DC11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AF75-264C-4540-9BBE-12935382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52B5-BACA-4F76-816E-3856BB59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DE08-0B0C-44BE-B76E-F8B26B14823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hat Were They Lik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Denise Lever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224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rev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nclin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v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jad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987280" y="1600200"/>
            <a:ext cx="569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eat with deep resp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habit of indulging 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rd creamy-white substance taken from elephant or walrus tusks used to make ornaments and jewell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rd green stone used for ornaments and jeweller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209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epic poe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distinguis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illumin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padd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59280" y="16002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long narrative poem traditionally recounting heroic exploi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e any difference betwe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lit, illumina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hort for ‘paddy fields’ – flooded  farmland where rice is cultiva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600200"/>
            <a:ext cx="224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free ve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juxta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627280" y="1600200"/>
            <a:ext cx="61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oetry that does not rhyme or have a regular structure or rhythm; also known by the French term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vers lib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lacing close together for contrasting eff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ood created by a manner of expression in wr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4920" y="1484280"/>
            <a:ext cx="24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llit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im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etaph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onomatopoe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132000" y="1557360"/>
            <a:ext cx="55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petition of the same consonant sound at the beginning of words in close proximity to each other for emphasis or other eff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hrase used to make a description more vivid by using ‘like’ or ‘as’ to compare two th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rect comparison between two things without using ‘like’ or ‘as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ords that sound like their mea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Archer, Katy</cp:lastModifiedBy>
  <dcterms:modified xsi:type="dcterms:W3CDTF">2015-01-13T17:48:17Z</dcterms:modified>
  <cp:revision>35</cp:revision>
  <dc:subject/>
  <dc:title>La Belle Dame Sans Merci</dc:title>
</cp:coreProperties>
</file>